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7.png" ContentType="image/png"/>
  <Override PartName="/ppt/media/image3.wmf" ContentType="image/x-wmf"/>
  <Override PartName="/ppt/media/ricochet.wav" ContentType="audio/x-wav"/>
  <Override PartName="/ppt/media/chimes.wav" ContentType="audio/x-wav"/>
  <Override PartName="/ppt/media/image16.png" ContentType="image/png"/>
  <Override PartName="/ppt/media/laser.wav" ContentType="audio/x-wav"/>
  <Override PartName="/ppt/media/image1.gif" ContentType="image/gif"/>
  <Override PartName="/ppt/media/image8.png" ContentType="image/png"/>
  <Override PartName="/ppt/media/image6.png" ContentType="image/png"/>
  <Override PartName="/ppt/media/explode.wav" ContentType="audio/x-wav"/>
  <Override PartName="/ppt/media/image18.jpeg" ContentType="image/jpeg"/>
  <Override PartName="/ppt/media/image12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cashreg.wav" ContentType="audio/x-wav"/>
  <Override PartName="/ppt/media/image13.png" ContentType="image/png"/>
  <Override PartName="/ppt/media/image10.png" ContentType="image/png"/>
  <Override PartName="/ppt/media/image4.wmf" ContentType="image/x-wmf"/>
  <Override PartName="/ppt/media/image2.gif" ContentType="image/gif"/>
  <Override PartName="/ppt/media/whoosh.wav" ContentType="audio/x-wav"/>
  <Override PartName="/ppt/media/image5.png" ContentType="image/pn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B4FF-652F-4468-8D70-389E76886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3938-718A-40BC-8503-3E4617CF4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1E03-72C1-49D7-A167-8C92920FA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D11F-3205-421D-81C9-EBB9033C0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B254-EAC8-4291-BD06-A560FF537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863A-95E4-4E4F-B288-BF1C5B5EF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DA8C-4415-48BA-AE5D-95DA95874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8C62-1514-4E1C-9EAE-C1F574D7D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2656-CA83-4759-BD7B-7F54FA501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C071-4B80-4D26-A6A2-95F552CE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F5A3-F8BC-473F-9411-36FFF0F7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2E5F-885E-41D8-A2A2-740D8E68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85B3C-F4F4-4D2A-80B4-01DFC68320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chimes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ricochet.wav"/><Relationship Id="rId10" Type="http://schemas.openxmlformats.org/officeDocument/2006/relationships/audio" Target="../media/ricochet.wav"/><Relationship Id="rId11" Type="http://schemas.openxmlformats.org/officeDocument/2006/relationships/audio" Target="../media/ricochet.wav"/><Relationship Id="rId12" Type="http://schemas.openxmlformats.org/officeDocument/2006/relationships/audio" Target="../media/laser.wav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chool.discovery.com/clipart/clip/ani_thinkingcap.html" TargetMode="External"/><Relationship Id="rId2" Type="http://schemas.openxmlformats.org/officeDocument/2006/relationships/image" Target="../media/image5.pn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chool.discovery.com/clipart/clip/ani-pupt.html" TargetMode="External"/><Relationship Id="rId2" Type="http://schemas.openxmlformats.org/officeDocument/2006/relationships/image" Target="../media/image6.png"/><Relationship Id="rId3" Type="http://schemas.openxmlformats.org/officeDocument/2006/relationships/hyperlink" Target="http://school.discovery.com/clipart/clip/ani-sun.html" TargetMode="External"/><Relationship Id="rId4" Type="http://schemas.openxmlformats.org/officeDocument/2006/relationships/image" Target="../media/image7.png"/><Relationship Id="rId5" Type="http://schemas.openxmlformats.org/officeDocument/2006/relationships/hyperlink" Target="http://school.discovery.com/clipart/clip/ani-mgic.html" TargetMode="External"/><Relationship Id="rId6" Type="http://schemas.openxmlformats.org/officeDocument/2006/relationships/image" Target="../media/image8.png"/><Relationship Id="rId7" Type="http://schemas.openxmlformats.org/officeDocument/2006/relationships/hyperlink" Target="http://school.discovery.com/clipart/clip/ani-brrr.html" TargetMode="External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chool.discovery.com/clipart/clip/carpentr.html" TargetMode="External"/><Relationship Id="rId2" Type="http://schemas.openxmlformats.org/officeDocument/2006/relationships/image" Target="../media/image10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school.discovery.com/clipart/clip/doctor.html" TargetMode="External"/><Relationship Id="rId2" Type="http://schemas.openxmlformats.org/officeDocument/2006/relationships/image" Target="../media/image11.png"/><Relationship Id="rId3" Type="http://schemas.openxmlformats.org/officeDocument/2006/relationships/hyperlink" Target="http://school.discovery.com/clipart/clip/b-carefl.html" TargetMode="External"/><Relationship Id="rId4" Type="http://schemas.openxmlformats.org/officeDocument/2006/relationships/image" Target="../media/image12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chool.discovery.com/clipart/clip/snowflk.html" TargetMode="External"/><Relationship Id="rId2" Type="http://schemas.openxmlformats.org/officeDocument/2006/relationships/image" Target="../media/image13.png"/><Relationship Id="rId3" Type="http://schemas.openxmlformats.org/officeDocument/2006/relationships/hyperlink" Target="http://school.discovery.com/clipart/clip/ice-cold.html" TargetMode="External"/><Relationship Id="rId4" Type="http://schemas.openxmlformats.org/officeDocument/2006/relationships/image" Target="../media/image14.png"/><Relationship Id="rId5" Type="http://schemas.openxmlformats.org/officeDocument/2006/relationships/hyperlink" Target="http://school.discovery.com/clipart/clip/ani_fish.html" TargetMode="External"/><Relationship Id="rId6" Type="http://schemas.openxmlformats.org/officeDocument/2006/relationships/image" Target="../media/image15.png"/><Relationship Id="rId7" Type="http://schemas.openxmlformats.org/officeDocument/2006/relationships/image" Target="../media/image7.png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71800" y="-287280"/>
            <a:ext cx="5164200" cy="26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Snap ITC"/>
              </a:rPr>
              <a:t>What</a:t>
            </a:r>
            <a:r>
              <a:rPr b="0" lang="en-US" sz="9600" spc="-1" strike="noStrike">
                <a:solidFill>
                  <a:srgbClr val="000000"/>
                </a:solidFill>
                <a:latin typeface="Snap ITC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nap ITC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06224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ani-wrld" descr=""/>
          <p:cNvPicPr/>
          <p:nvPr/>
        </p:nvPicPr>
        <p:blipFill>
          <a:blip r:embed="rId1"/>
          <a:stretch/>
        </p:blipFill>
        <p:spPr>
          <a:xfrm>
            <a:off x="3429000" y="1523880"/>
            <a:ext cx="2514600" cy="24447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57200" y="4191120"/>
            <a:ext cx="813600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Snap ITC"/>
              </a:rPr>
              <a:t>in the world</a:t>
            </a:r>
            <a:r>
              <a:rPr b="0" lang="en-US" sz="6500" spc="-1" strike="noStrike">
                <a:solidFill>
                  <a:srgbClr val="000000"/>
                </a:solidFill>
                <a:latin typeface="Snap ITC"/>
              </a:rPr>
              <a:t> is matter?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971800" y="3962520"/>
            <a:ext cx="2313000" cy="25905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285768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0720" y="2657520"/>
            <a:ext cx="6937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Iceberg in Disenchantment Bay"/>
          <p:cNvPicPr/>
          <p:nvPr/>
        </p:nvPicPr>
        <p:blipFill>
          <a:blip r:embed="rId2"/>
          <a:stretch/>
        </p:blipFill>
        <p:spPr>
          <a:xfrm>
            <a:off x="304920" y="304920"/>
            <a:ext cx="4267080" cy="23619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50760" y="28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760" y="28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760" y="28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St. Mary Falls"/>
          <p:cNvPicPr/>
          <p:nvPr/>
        </p:nvPicPr>
        <p:blipFill>
          <a:blip r:embed="rId3"/>
          <a:stretch/>
        </p:blipFill>
        <p:spPr>
          <a:xfrm>
            <a:off x="5943600" y="304920"/>
            <a:ext cx="2235240" cy="3352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1703520" y="2698920"/>
            <a:ext cx="20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nap ITC"/>
              </a:rPr>
              <a:t>Soli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04600" y="3765600"/>
            <a:ext cx="249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nap ITC"/>
              </a:rPr>
              <a:t>Liqui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6800" y="5638680"/>
            <a:ext cx="210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nap ITC"/>
              </a:rPr>
              <a:t>Gas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Snap ITC"/>
              </a:rPr>
              <a:t>Works Cite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2133720"/>
            <a:ext cx="838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00"/>
              </a:buClr>
              <a:buFont typeface="Snap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Snap ITC"/>
              </a:rPr>
              <a:t>www.school.discovery.clipa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Snap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Snap ITC"/>
              </a:rPr>
              <a:t>www.theglacierweb.c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nap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nap ITC"/>
              </a:rPr>
              <a:t>Provo Craft Hugw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nap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nap ITC"/>
              </a:rPr>
              <a:t>www.animationfactory.c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Snap ITC"/>
              </a:rPr>
              <a:t>Matter is…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2209680" cy="2189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373200" y="1981080"/>
            <a:ext cx="516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Snap ITC"/>
              </a:rPr>
              <a:t>A. Anything that mo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92560" y="2819520"/>
            <a:ext cx="501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Snap ITC"/>
              </a:rPr>
              <a:t>B. Anything that tak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Snap ITC"/>
              </a:rPr>
              <a:t>    </a:t>
            </a:r>
            <a:r>
              <a:rPr b="0" lang="en-US" sz="3600" spc="-1" strike="noStrike">
                <a:solidFill>
                  <a:srgbClr val="800080"/>
                </a:solidFill>
                <a:latin typeface="Snap ITC"/>
              </a:rPr>
              <a:t>up spa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89960" y="4191120"/>
            <a:ext cx="528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Snap ITC"/>
              </a:rPr>
              <a:t>C. Something that cries</a:t>
            </a:r>
            <a:r>
              <a:rPr b="0" lang="en-US" sz="3600" spc="-1" strike="noStrike">
                <a:solidFill>
                  <a:srgbClr val="000000"/>
                </a:solidFill>
                <a:latin typeface="Snap ITC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438280" y="533520"/>
            <a:ext cx="464832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003300"/>
                </a:solidFill>
                <a:latin typeface="Snap ITC"/>
              </a:rPr>
              <a:t>B.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43434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Snap ITC"/>
              </a:rPr>
              <a:t>Anything </a:t>
            </a:r>
            <a:r>
              <a:rPr b="0" lang="en-US" sz="6000" spc="-1" strike="noStrike">
                <a:solidFill>
                  <a:srgbClr val="003300"/>
                </a:solidFill>
                <a:latin typeface="Snap ITC"/>
              </a:rPr>
              <a:t>that</a:t>
            </a:r>
            <a:r>
              <a:rPr b="0" lang="en-US" sz="6000" spc="-1" strike="noStrike">
                <a:solidFill>
                  <a:srgbClr val="ffcc00"/>
                </a:solidFill>
                <a:latin typeface="Snap ITC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Snap ITC"/>
              </a:rPr>
              <a:t>takes </a:t>
            </a:r>
            <a:r>
              <a:rPr b="0" lang="en-US" sz="6000" spc="-1" strike="noStrike">
                <a:solidFill>
                  <a:srgbClr val="003300"/>
                </a:solidFill>
                <a:latin typeface="Snap ITC"/>
              </a:rPr>
              <a:t>up</a:t>
            </a:r>
            <a:r>
              <a:rPr b="0" lang="en-US" sz="6000" spc="-1" strike="noStrike">
                <a:solidFill>
                  <a:srgbClr val="ffcc00"/>
                </a:solidFill>
                <a:latin typeface="Snap ITC"/>
              </a:rPr>
              <a:t> space</a:t>
            </a:r>
            <a:r>
              <a:rPr b="0" lang="en-US" sz="6000" spc="-1" strike="noStrike">
                <a:solidFill>
                  <a:srgbClr val="003300"/>
                </a:solidFill>
                <a:latin typeface="Snap ITC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4138560"/>
            <a:ext cx="1295280" cy="1212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371600" y="228600"/>
            <a:ext cx="950760" cy="1066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143000" y="2590920"/>
            <a:ext cx="950760" cy="1066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6553080" y="762120"/>
            <a:ext cx="1154160" cy="1295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7467480" y="2819520"/>
            <a:ext cx="951120" cy="1066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4267080" y="0"/>
            <a:ext cx="95112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50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65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Snap ITC"/>
              </a:rPr>
              <a:t>How does matter change?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5029200"/>
            <a:ext cx="930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nap ITC"/>
              </a:rPr>
              <a:t>Put on your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nap ITC"/>
              </a:rPr>
              <a:t>thinking cap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81280" y="2209680"/>
            <a:ext cx="2024280" cy="2975040"/>
          </a:xfrm>
          <a:prstGeom prst="rect">
            <a:avLst/>
          </a:prstGeom>
          <a:ln w="76320">
            <a:solidFill>
              <a:srgbClr val="00cc00"/>
            </a:solidFill>
            <a:miter/>
          </a:ln>
        </p:spPr>
      </p:pic>
    </p:spTree>
  </p:cSld>
  <p:transition spd="slow">
    <p:fade thruBlk="true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Snap ITC"/>
              </a:rPr>
              <a:t>Matter changes by</a:t>
            </a:r>
            <a:r>
              <a:rPr b="0" lang="en-US" sz="8000" spc="-1" strike="noStrike">
                <a:solidFill>
                  <a:srgbClr val="ff3300"/>
                </a:solidFill>
                <a:latin typeface="Snap ITC"/>
              </a:rPr>
              <a:t>.</a:t>
            </a:r>
            <a:r>
              <a:rPr b="0" lang="en-US" sz="8000" spc="-1" strike="noStrike">
                <a:solidFill>
                  <a:srgbClr val="ffcc00"/>
                </a:solidFill>
                <a:latin typeface="Snap ITC"/>
              </a:rPr>
              <a:t>.</a:t>
            </a:r>
            <a:r>
              <a:rPr b="0" lang="en-US" sz="8000" spc="-1" strike="noStrike">
                <a:solidFill>
                  <a:srgbClr val="ff3300"/>
                </a:solidFill>
                <a:latin typeface="Snap ITC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2960" y="2819520"/>
            <a:ext cx="1312920" cy="1771560"/>
          </a:xfrm>
          <a:prstGeom prst="rect">
            <a:avLst/>
          </a:prstGeom>
          <a:ln w="57240">
            <a:solidFill>
              <a:srgbClr val="ffcc00"/>
            </a:solidFill>
            <a:miter/>
          </a:ln>
        </p:spPr>
      </p:pic>
      <p:pic>
        <p:nvPicPr>
          <p:cNvPr id="6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0880" y="2895480"/>
            <a:ext cx="1484280" cy="1470240"/>
          </a:xfrm>
          <a:prstGeom prst="rect">
            <a:avLst/>
          </a:prstGeom>
          <a:ln w="57240">
            <a:solidFill>
              <a:srgbClr val="ffcc00"/>
            </a:solidFill>
            <a:miter/>
          </a:ln>
        </p:spPr>
      </p:pic>
      <p:pic>
        <p:nvPicPr>
          <p:cNvPr id="6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666880" y="4191120"/>
            <a:ext cx="1409760" cy="160812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  <p:pic>
        <p:nvPicPr>
          <p:cNvPr id="65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061040" y="3657600"/>
            <a:ext cx="1320840" cy="227016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533520" y="4419720"/>
            <a:ext cx="102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Snap ITC"/>
              </a:rPr>
              <a:t>H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35720" y="5943600"/>
            <a:ext cx="10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Snap ITC"/>
              </a:rPr>
              <a:t>Ma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48320" y="4724280"/>
            <a:ext cx="14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Snap ITC"/>
              </a:rPr>
              <a:t>Tal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924240" y="6095880"/>
            <a:ext cx="140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Snap ITC"/>
              </a:rPr>
              <a:t>Free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04920" y="304920"/>
            <a:ext cx="792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nap ITC"/>
              </a:rPr>
              <a:t>How is the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nap ITC"/>
              </a:rPr>
              <a:t>matter changing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84600" y="3160800"/>
            <a:ext cx="274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800080"/>
                </a:solidFill>
                <a:latin typeface="Snap ITC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Snap ITC"/>
              </a:rPr>
              <a:t> </a:t>
            </a:r>
            <a:r>
              <a:rPr b="0" lang="en-US" sz="4400" spc="-1" strike="noStrike">
                <a:solidFill>
                  <a:srgbClr val="ffcc00"/>
                </a:solidFill>
                <a:latin typeface="Snap ITC"/>
              </a:rPr>
              <a:t>free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32920" y="4303800"/>
            <a:ext cx="2442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Snap ITC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Snap ITC"/>
              </a:rPr>
              <a:t> </a:t>
            </a:r>
            <a:r>
              <a:rPr b="0" lang="en-US" sz="4400" spc="-1" strike="noStrike">
                <a:solidFill>
                  <a:srgbClr val="00cc00"/>
                </a:solidFill>
                <a:latin typeface="Snap ITC"/>
              </a:rPr>
              <a:t>cut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0080" y="2133720"/>
            <a:ext cx="2776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cc00"/>
                </a:solidFill>
                <a:latin typeface="Snap ITC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Snap ITC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Snap ITC"/>
              </a:rPr>
              <a:t>be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81680" y="5370480"/>
            <a:ext cx="2602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Snap ITC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Snap ITC"/>
              </a:rPr>
              <a:t> </a:t>
            </a:r>
            <a:r>
              <a:rPr b="0" lang="en-US" sz="4400" spc="-1" strike="noStrike">
                <a:solidFill>
                  <a:srgbClr val="800080"/>
                </a:solidFill>
                <a:latin typeface="Snap ITC"/>
              </a:rPr>
              <a:t>hea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3600" y="2362320"/>
            <a:ext cx="1996920" cy="28954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spd="slow">
    <p:fade thruBlk="true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500"/>
                            </p:stCondLst>
                            <p:childTnLst>
                              <p:par>
                                <p:cTn id="1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Snap ITC"/>
              </a:rPr>
              <a:t>How did it change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95280" y="2819520"/>
            <a:ext cx="1595520" cy="2438280"/>
          </a:xfrm>
          <a:prstGeom prst="rect">
            <a:avLst/>
          </a:prstGeom>
          <a:ln w="76320">
            <a:solidFill>
              <a:srgbClr val="800080"/>
            </a:solidFill>
            <a:miter/>
          </a:ln>
        </p:spPr>
      </p:pic>
      <p:pic>
        <p:nvPicPr>
          <p:cNvPr id="7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1320" y="2895480"/>
            <a:ext cx="1761840" cy="2362320"/>
          </a:xfrm>
          <a:prstGeom prst="rect">
            <a:avLst/>
          </a:prstGeom>
          <a:ln w="76320">
            <a:solidFill>
              <a:srgbClr val="800080"/>
            </a:solidFill>
            <a:miter/>
          </a:ln>
        </p:spPr>
      </p:pic>
    </p:spTree>
  </p:cSld>
  <p:transition spd="slow">
    <p:fade thruBlk="true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nap ITC"/>
              </a:rPr>
              <a:t>What type of change is shown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255760"/>
            <a:ext cx="2438280" cy="1208160"/>
          </a:xfrm>
          <a:prstGeom prst="rect">
            <a:avLst/>
          </a:prstGeom>
          <a:ln w="57240">
            <a:solidFill>
              <a:srgbClr val="0099ff"/>
            </a:solidFill>
            <a:miter/>
          </a:ln>
        </p:spPr>
      </p:pic>
      <p:pic>
        <p:nvPicPr>
          <p:cNvPr id="8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080" y="3733920"/>
            <a:ext cx="1633680" cy="205740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pic>
        <p:nvPicPr>
          <p:cNvPr id="8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638680" y="4038480"/>
            <a:ext cx="2514600" cy="173520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pic>
        <p:nvPicPr>
          <p:cNvPr id="83" name="" descr=""/>
          <p:cNvPicPr/>
          <p:nvPr/>
        </p:nvPicPr>
        <p:blipFill>
          <a:blip r:embed="rId7"/>
          <a:stretch/>
        </p:blipFill>
        <p:spPr>
          <a:xfrm>
            <a:off x="6095880" y="2057400"/>
            <a:ext cx="1524240" cy="150984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559080" y="5875200"/>
            <a:ext cx="197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nap ITC"/>
              </a:rPr>
              <a:t>Before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307560" y="5875200"/>
            <a:ext cx="148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nap ITC"/>
              </a:rPr>
              <a:t>After</a:t>
            </a:r>
            <a:r>
              <a:rPr b="0" lang="en-US" sz="2400" spc="-1" strike="noStrike">
                <a:solidFill>
                  <a:srgbClr val="000000"/>
                </a:solidFill>
                <a:latin typeface="Snap ITC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3000"/>
                            </p:stCondLst>
                            <p:childTnLst>
                              <p:par>
                                <p:cTn id="250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9520" y="304920"/>
            <a:ext cx="2286000" cy="22636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457200"/>
            <a:ext cx="262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nap ITC"/>
              </a:rPr>
              <a:t>Th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661000" y="380880"/>
            <a:ext cx="3342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nap ITC"/>
              </a:rPr>
              <a:t>types</a:t>
            </a:r>
            <a:r>
              <a:rPr b="0" lang="en-US" sz="2400" spc="-1" strike="noStrike">
                <a:solidFill>
                  <a:srgbClr val="000000"/>
                </a:solidFill>
                <a:latin typeface="Snap IT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41120" y="4038480"/>
            <a:ext cx="72856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Snap ITC"/>
              </a:rPr>
              <a:t>Of matter are…</a:t>
            </a:r>
            <a:endParaRPr b="0" lang="en-US" sz="7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3500"/>
                            </p:stCondLst>
                            <p:childTnLst>
                              <p:par>
                                <p:cTn id="2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04:33:43Z</dcterms:created>
  <dc:creator>Johnny Ferry</dc:creator>
  <dc:description/>
  <dc:language>en-US</dc:language>
  <cp:lastModifiedBy>aselby</cp:lastModifiedBy>
  <dcterms:modified xsi:type="dcterms:W3CDTF">2008-08-23T19:25:12Z</dcterms:modified>
  <cp:revision>13</cp:revision>
  <dc:subject/>
  <dc:title>PowerPoint Presentation</dc:title>
</cp:coreProperties>
</file>